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D28-9715-4EE3-9B3C-CEC4B436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233-AF7A-4A3E-A879-CD0B2E81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F39-7862-4669-BF53-387C3E00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452-CCAE-4FA3-956A-59B1EDF5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81F-394E-4220-992A-3F653372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38D-9FBC-4AF1-B542-6BC34663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EDD-B8EA-44A9-A0DF-4C8F1399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B2E-A9D2-439C-98B2-D15579A0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C4B-A7C9-497A-84B5-99A27ADE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708-7FFF-4F1A-B8B5-CEB3B19E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997D-9469-4984-A116-5EAFC6D3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887-1BE0-48E1-9197-C331B754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025C-44D5-4B18-B2F4-E8DF16617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ile:Martin_Luther_King_Jr_NYWTS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260280"/>
            <a:ext cx="72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oper Black"/>
              </a:rPr>
              <a:t>Martin Luther K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48000" y="1052640"/>
            <a:ext cx="2381400" cy="2886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24000" y="4005360"/>
            <a:ext cx="4896000" cy="26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11280" y="4076640"/>
          <a:ext cx="4318200" cy="2502000"/>
        </p:xfrm>
        <a:graphic>
          <a:graphicData uri="http://schemas.openxmlformats.org/drawingml/2006/table">
            <a:tbl>
              <a:tblPr/>
              <a:tblGrid>
                <a:gridCol w="1809720"/>
                <a:gridCol w="250848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 of birt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15, 19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 of birt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nta, Georgia united 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 of deat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4, 1968 (aged 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 of deat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phis,Tennessee,United sta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ffff00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620640"/>
            <a:ext cx="590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73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oper Black"/>
              </a:rPr>
              <a:t>Mlk’s hous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762440" cy="3889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1035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3609720" cy="3914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32000" y="26028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oper Black"/>
              </a:rPr>
              <a:t>Martin Luther kings murder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46418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 Extra Bold"/>
              </a:rPr>
              <a:t>James earl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cc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571920" cy="476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92360" y="47628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itannic Bold"/>
              </a:rPr>
              <a:t>Martins’ birthpl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9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0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553 -0.19676 C -0.32605 -0.19653 -0.33438 -0.19283 -0.3349 -0.19236 C -0.33889 -0.18797 -0.34601 -0.17757 -0.34601 -0.17757 C -0.35192 -0.15838 -0.35938 -0.14219 -0.36511 -0.12277 C -0.36841 -0.09086 -0.36928 -0.08901 -0.36511 -0.04023 C -0.36476 -0.0356 -0.35487 -0.00323 -0.35244 0.00209 C -0.33282 0.04509 -0.30209 0.08602 -0.26511 0.0992 C -0.254 0.10821 -0.24775 0.11515 -0.2349 0.11839 C -0.21962 0.12209 -0.18889 0.12671 -0.18889 0.12671 C -0.15209 0.11376 -0.10973 0.09642 -0.08421 0.05688 C -0.08091 0.03492 -0.07535 -0.00439 -0.06824 -0.02543 C -0.06284 -0.04115 -0.05504 -0.04647 -0.04444 -0.05502 C -0.03976 -0.05872 -0.03542 -0.06381 -0.03021 -0.06566 C -0.02258 -0.0682 -0.01442 -0.06705 -0.00643 -0.06774 C 0.02987 -0.06404 0.05799 -0.05965 0.09184 -0.04231 C 0.1415 -0.0171 0.17778 -0.00693 0.21112 0.04648 C 0.22327 0.06613 0.22674 0.09226 0.23177 0.11607 C 0.23403 0.17365 0.23612 0.22336 0.21719 0.27677 C 0.21563 0.2881 0.21546 0.29989 0.21268 0.31076 C 0.20591 0.33781 0.18716 0.35584 0.1698 0.36995 C 0.14063 0.36255 0.11806 0.34752 0.09046 0.33388 C 0.05434 0.31607 0.01546 0.29966 -0.02223 0.2874 C -0.06145 0.23515 -0.07049 0.16463 -0.08264 0.09503 C -0.08212 0.08579 -0.08247 0.07654 -0.08108 0.06752 C -0.07744 0.04417 -0.05747 0.03515 -0.04288 0.0296 C -0.00764 0.03145 0.00122 0.03399 0.03176 0.04209 C 0.05191 0.05897 0.06579 0.08139 0.08247 0.10359 C 0.09445 0.13758 0.10834 0.1681 0.1158 0.20486 C 0.1132 0.22266 0.1099 0.24001 0.10764 0.25781 C 0.09427 0.2518 0.08299 0.21735 0.07605 0.20717 C 0.06493 0.19029 0.05591 0.17064 0.04444 0.15423 C 0.02396 0.12486 0.01631 0.12602 0.00313 0.09087 C 0.00052 0.07769 -0.00034 0.06428 -0.00157 0.05064 C -8.88889E-006 0.00417 -8.88889E-006 0.02105 -8.88889E-006 5.78035E-006 E">
                                      <p:cBhvr>
                                        <p:cTn id="10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3809880" cy="2923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11280" y="333360"/>
            <a:ext cx="54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Bus boycot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4:58:11Z</dcterms:created>
  <dc:creator>nb</dc:creator>
  <dc:description/>
  <dc:language>en-US</dc:language>
  <cp:lastModifiedBy>nb</cp:lastModifiedBy>
  <dcterms:modified xsi:type="dcterms:W3CDTF">2009-02-27T12:32:16Z</dcterms:modified>
  <cp:revision>3</cp:revision>
  <dc:subject/>
  <dc:title>Slide 1</dc:title>
</cp:coreProperties>
</file>